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AF95-F98B-47D1-8AB0-3933B8D38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D880-5533-4B3C-83CD-A37D0EDC8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977D-0C35-4FA8-8C45-8F8063FBC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4E59-59C0-4455-A8F3-5EBC9F919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A599-72E8-47A6-B328-ECEFB91A7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BF0D-B1FA-4C57-B008-5DC280173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4211-C3E8-46C8-916C-6E826BD98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8255-61E1-4C13-B869-24366E4B6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125E-72BC-46E3-A5E5-2FACD1DA0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B72B-CDDD-4029-82FD-5A64A093C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2978-BDD3-4F20-9F49-7EDDA7956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0BB3-E0C9-4817-AB9F-EBBE94DAF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29B09-5D19-4967-AB42-8D68DEECC0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03T15:53:32Z</dcterms:modified>
  <cp:revision>38</cp:revision>
  <dc:subject/>
  <dc:title>PowerPoint Presentation</dc:title>
</cp:coreProperties>
</file>